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FCB-FA54-4FC7-8874-0561FC80D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6125-B5E2-4240-8C8D-45AF194D7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D777-6A06-409F-9696-94816893B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7CCD-29E7-4D42-83A3-56D35CA68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0397-C0B0-4367-8623-601D29239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762E-CADC-43DB-A49C-95EA311C2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7BFC-E631-4F3A-80B4-B2C3051D0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C230-4819-4764-8BA2-208057FF2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0612-23FF-4814-9B32-CB9252CC2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36E-ACDD-4B3B-A39C-A2B0189CD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7208-BA62-48C6-B43E-B6EA5B51B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861C-7CC3-4FF6-BEA5-C364EBF10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1F49-B046-4207-BD3F-E98C1ACAD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E016-7B23-43FB-98F9-082BF8F445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4D7E-0336-4876-B2C8-E03EB1A0A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6196-16F4-4E63-A4C5-E3C23D5F0A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0987-6BA0-4794-AC81-5A5EB98C4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5D63-DDB9-4C82-8D13-5E5AAFD41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A1DF-9215-4E15-A37C-9298299D0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1BAA-675A-4768-9668-DDC3592C5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5125-BC3E-4873-9F55-1355A5C0B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ABCE-8CDC-4393-9EB4-D9D7D1FE9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33BD-9F75-4A7D-BD12-E068880E6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F8A9-9CA8-490E-B3EA-06633B75B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46C4-96C1-4526-B90F-9AFCD89EA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09AE-C583-4B3C-8584-7FEA90B88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5424-24E2-4696-B868-A41F5C364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A662-7101-4EAA-B733-04108BCEE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CD93-A038-4321-9DEA-615977B0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561-FEC0-4F79-A86D-14B86046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2FA-BA2B-4816-A31E-A79D8B86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D46-C1A9-445E-B6DD-96D4334A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477-57AB-4CA2-B2BD-CF10253A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205-BED7-4A03-8D36-E64ECF9E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4C8-05A2-4C01-B5F7-47F342A4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B8D-5455-47FF-A9D6-B5162513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3AA-D41C-44ED-9601-81E4E4F8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8C0-C911-452B-A263-B3588964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BB2-F26F-4792-9321-0E27914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140-B40D-4B0C-AE67-D95B7DA1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88F0-3F1F-46BC-9C35-CC2C6543B6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32Z</dcterms:modified>
  <cp:revision>343</cp:revision>
  <dc:subject/>
  <dc:title>PowerPoint Presentation</dc:title>
</cp:coreProperties>
</file>